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B89-0EEA-4BAF-84F8-55575F0E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417-1D95-460A-9EE9-407FB2D5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F48-9A81-4DCA-9208-E17B7925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B4C-3FDD-4EE1-9BA9-21BB582F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C684-CF5C-40F2-9832-C4F7087E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E550-19F6-4FD0-9819-F546E2EB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0BBC-7362-46EE-BBE1-6D7F16B3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2F33-325B-42EA-BE5A-209BB1E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60B1-3DEB-487C-8311-466E197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0C60-E998-4C23-AAC0-3AB33834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4BE6-8BDF-4B91-BB32-FE8FB03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E22-FAE0-4071-BAF8-1AF6F5A9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1CD3-477D-4C2F-A90F-F1C3DF3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F4F9-2CA6-435C-8351-6648481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8A89-1EA9-49F8-A383-D01A9B3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399B-F615-428D-8A42-59FDF622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7EEE-8622-473E-8AF8-60CE2531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305AF-DDB9-4F4A-B996-C9023A06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557A9-6AD4-4D66-9F29-FDA132F0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CE37D-4BA6-42D0-8118-70A6790C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02072-089E-45C8-99C5-A9530FB5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7347E-A316-463A-99FF-0BA9B47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8D6-4B57-43F8-B496-4BB08CBE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97F1F-ED8D-4915-A670-6F9D766B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80361-029B-4261-A288-77696B0E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9EB64-1291-494B-91C3-7955826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6D44F-1C92-4F28-B58A-006371E8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3A4E4-2DCD-4276-B0A9-22B559B6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8221A-5373-419D-9C3E-1DC9BDF9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C051A-10FE-467D-8A3E-BFD5B053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6719-6C92-4F3B-B3AD-8A2B18B5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7B63-23B7-47AA-80E3-FF79C124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10ED-3D7A-4F68-8572-B281A246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E45-449A-423F-BCF3-521A26C2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880A-B558-415A-BD85-33A167F9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2826-C512-4843-8321-9B18AFAE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C5DF-24FF-475F-ACFF-5F730302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9EA6-CD8A-4D8E-9D24-4D1A86F5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913A-26AC-4C50-A68A-3FED76F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0916E-6FF9-4943-A0F3-ADE80275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C3F9B-0DB9-4E35-BF56-3929FFB5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08A8-C83A-493C-BC54-6587E00A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E8B93-804D-459E-8C36-EF66ED74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2EF8B-EE22-4299-9FAC-C20CD199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E22-C81B-4C20-8D65-C1D864E0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7A91F-85B5-4441-983A-C1B77896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07511-35A5-4564-B20B-BE29C000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5FC78-0F00-484C-BC19-127996C0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DC91B-CD89-46E6-BBE1-31A2D28F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5C296-182B-40D4-8A14-DDE3F130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49D0C-D958-44D2-A32A-9975D87B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F9DD3-5416-41E0-967A-BA0883BA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DF7F9-F3DD-4839-A974-D92CF27C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822FF-0931-4E95-93B9-06077BC5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67D78-AFC2-4F16-A3B5-6D8BA624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FF8-F186-46C0-BEB1-F593949F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98DE4-39B0-43A3-BF5F-BC368D6E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751FC-47F3-4A62-A05C-A0F25593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4C7EA-70DC-4BB1-A54A-FB7199A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86F3B-D282-48D6-96BD-719F82D3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65153-5B90-4AFD-9BEF-C534D133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85449-7BA3-4CC3-9998-FA5AB547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35221-69B6-4757-B46E-1BB980C5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321C9-4830-427D-AA1D-2B1EA797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8F160-3A1C-40E3-B3D1-604A939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867DA-547E-46C3-A486-E720C26C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14E-82A1-4ADD-BC7F-4E313B92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99B1B-8369-4D59-A63D-D7B51CD7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09BF5-9F3F-4C73-88BB-37F323EE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03AE6-32CA-4E0F-960A-2659C731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4402A-BA6F-486F-8D43-23E946E2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514F3-DE40-441C-99C4-823DA249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CC5F9-154A-430F-BD7B-EE254571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8D4A4-97A6-4215-A1E1-7CDA8C5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CEB6B-A26A-4A59-ADA4-C20529F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0672F-E506-4511-843C-CB335870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A3B37-CBB7-4E8E-B042-BB9C91D4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B19-8EA0-4515-9F8C-C0F4CBD8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CA88A-E4AA-41D0-9FA5-DB6E86E9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78859-9B24-43E5-BF4B-12D1CE87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7BEEC-80A7-440F-B5E5-38B2BF71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543CB-B601-413F-8D37-625451F6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BD40F-D47E-4898-9CE7-070884B0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07A-662E-4D31-853D-4D314193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91C2-8D08-4CB2-8CD1-0DE933E8A9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CEB2-FAE6-4B2F-9579-405FB56B13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4695-E2BD-450C-9647-D13A3C90BB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4911-A178-4BB1-89A1-0EF7285FAA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0001-9ADD-46AA-9801-E044BE1746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69A1-0225-4E48-879D-8D88567AB9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61F6-3BC2-4D1C-9B0C-D67F039E79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22&amp;02&amp;13A%20Darwin%20and%20the%20Galapagos%20Islands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interactivemedia/activityshared/ActivityLoader.html?c6e&amp;22&amp;06&amp;13C%20Reconstructing%20Forelimbs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videos/GalapagosIslands-V.html" TargetMode="External"/><Relationship Id="rId2" Type="http://schemas.openxmlformats.org/officeDocument/2006/relationships/hyperlink" Target="http://media.pearsoncmg.com/bc/bc_campbell_concepts_5/media/assets/videos/MarineIguana-V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dia.pearsoncmg.com/bc/bc_campbell_concepts_5/media/assets/videos/GrandCanyon-V.html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1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How Populations Evol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5600" indent="-3351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le on the voyage of the HMS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Beag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in the 1830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rles Darwin observed similarities between living and fossil organisms and the diversity of life on the Galápagos Island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492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13A Darwin and the Galapagos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9" name="Group 55"/>
          <p:cNvGrpSpPr/>
          <p:nvPr/>
        </p:nvGrpSpPr>
        <p:grpSpPr>
          <a:xfrm>
            <a:off x="882720" y="254160"/>
            <a:ext cx="7753320" cy="6240240"/>
            <a:chOff x="882720" y="254160"/>
            <a:chExt cx="7753320" cy="6240240"/>
          </a:xfrm>
        </p:grpSpPr>
        <p:sp>
          <p:nvSpPr>
            <p:cNvPr id="380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e8637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Picture 6" descr="_x001a_13_01bBeagleVoyage_CNL.jpg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1824120" y="3263760"/>
              <a:ext cx="646596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7"/>
            <p:cNvSpPr/>
            <p:nvPr/>
          </p:nvSpPr>
          <p:spPr>
            <a:xfrm>
              <a:off x="3534120" y="3822840"/>
              <a:ext cx="4611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5196240" y="3970440"/>
              <a:ext cx="42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4709160" y="3862440"/>
              <a:ext cx="3970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eat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rita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5227920" y="461340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5981760" y="484200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qu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148800" y="397044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6812640" y="5229360"/>
              <a:ext cx="478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4"/>
            <p:cNvSpPr/>
            <p:nvPr/>
          </p:nvSpPr>
          <p:spPr>
            <a:xfrm>
              <a:off x="6892920" y="5688000"/>
              <a:ext cx="51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sman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7137360" y="561024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7285320" y="574524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Zeal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 flipH="1">
              <a:off x="7483320" y="5518080"/>
              <a:ext cx="3672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7165800" y="464040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9"/>
            <p:cNvSpPr/>
            <p:nvPr/>
          </p:nvSpPr>
          <p:spPr>
            <a:xfrm>
              <a:off x="4163760" y="4259160"/>
              <a:ext cx="549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ATLANT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0"/>
            <p:cNvSpPr/>
            <p:nvPr/>
          </p:nvSpPr>
          <p:spPr>
            <a:xfrm>
              <a:off x="3082680" y="448632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1"/>
            <p:cNvSpPr/>
            <p:nvPr/>
          </p:nvSpPr>
          <p:spPr>
            <a:xfrm>
              <a:off x="2992320" y="4944960"/>
              <a:ext cx="480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ACIFIC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2"/>
            <p:cNvSpPr/>
            <p:nvPr/>
          </p:nvSpPr>
          <p:spPr>
            <a:xfrm>
              <a:off x="1926720" y="49309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alápagos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sland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4053240" y="4992840"/>
              <a:ext cx="4611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me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836160" y="5916600"/>
              <a:ext cx="744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ierra del Fue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>
              <a:off x="4194000" y="5830920"/>
              <a:ext cx="0" cy="9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4442400" y="5775480"/>
              <a:ext cx="55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pe Ho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7"/>
            <p:cNvSpPr/>
            <p:nvPr/>
          </p:nvSpPr>
          <p:spPr>
            <a:xfrm>
              <a:off x="4784760" y="5405400"/>
              <a:ext cx="572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pe of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ood Ho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8"/>
            <p:cNvSpPr/>
            <p:nvPr/>
          </p:nvSpPr>
          <p:spPr>
            <a:xfrm flipH="1">
              <a:off x="5151600" y="5481720"/>
              <a:ext cx="2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9"/>
            <p:cNvSpPr/>
            <p:nvPr/>
          </p:nvSpPr>
          <p:spPr>
            <a:xfrm>
              <a:off x="4273560" y="585144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0"/>
            <p:cNvSpPr/>
            <p:nvPr/>
          </p:nvSpPr>
          <p:spPr>
            <a:xfrm flipH="1" rot="16200000">
              <a:off x="3917160" y="5389560"/>
              <a:ext cx="433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538720" y="5078520"/>
              <a:ext cx="354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int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2454480" y="5281560"/>
              <a:ext cx="522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Marche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2946600" y="5202360"/>
              <a:ext cx="529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Genove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4"/>
            <p:cNvSpPr/>
            <p:nvPr/>
          </p:nvSpPr>
          <p:spPr>
            <a:xfrm>
              <a:off x="3071880" y="535932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qu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5"/>
            <p:cNvSpPr/>
            <p:nvPr/>
          </p:nvSpPr>
          <p:spPr>
            <a:xfrm>
              <a:off x="2488320" y="5416560"/>
              <a:ext cx="48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6"/>
            <p:cNvSpPr/>
            <p:nvPr/>
          </p:nvSpPr>
          <p:spPr>
            <a:xfrm>
              <a:off x="2188080" y="5803920"/>
              <a:ext cx="427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sabel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7"/>
            <p:cNvSpPr/>
            <p:nvPr/>
          </p:nvSpPr>
          <p:spPr>
            <a:xfrm>
              <a:off x="1914840" y="5672160"/>
              <a:ext cx="56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rnandi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8"/>
            <p:cNvSpPr/>
            <p:nvPr/>
          </p:nvSpPr>
          <p:spPr>
            <a:xfrm>
              <a:off x="2555640" y="6114960"/>
              <a:ext cx="47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loren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9"/>
            <p:cNvSpPr/>
            <p:nvPr/>
          </p:nvSpPr>
          <p:spPr>
            <a:xfrm>
              <a:off x="2947320" y="6140520"/>
              <a:ext cx="499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Español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0"/>
            <p:cNvSpPr/>
            <p:nvPr/>
          </p:nvSpPr>
          <p:spPr>
            <a:xfrm>
              <a:off x="3015360" y="5904000"/>
              <a:ext cx="482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ristob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2535480" y="5819760"/>
              <a:ext cx="380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ant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ru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2765520" y="5853240"/>
              <a:ext cx="380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Santa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451960" y="5624640"/>
              <a:ext cx="414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Pinzó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2858400" y="5505480"/>
              <a:ext cx="448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Daphne</a:t>
              </a:r>
              <a:br>
                <a:rPr sz="600"/>
              </a:b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sland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45"/>
            <p:cNvSpPr/>
            <p:nvPr/>
          </p:nvSpPr>
          <p:spPr>
            <a:xfrm flipV="1">
              <a:off x="2770200" y="5575320"/>
              <a:ext cx="16524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 flipH="1">
              <a:off x="2798640" y="5568840"/>
              <a:ext cx="136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2373480" y="620064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 mi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2182320" y="6062760"/>
              <a:ext cx="38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 k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49"/>
            <p:cNvSpPr/>
            <p:nvPr/>
          </p:nvSpPr>
          <p:spPr>
            <a:xfrm>
              <a:off x="1931760" y="6091200"/>
              <a:ext cx="24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0"/>
            <p:cNvSpPr/>
            <p:nvPr/>
          </p:nvSpPr>
          <p:spPr>
            <a:xfrm>
              <a:off x="1931760" y="6221520"/>
              <a:ext cx="24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53"/>
            <p:cNvSpPr/>
            <p:nvPr/>
          </p:nvSpPr>
          <p:spPr>
            <a:xfrm>
              <a:off x="882720" y="6153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56"/>
          <p:cNvSpPr/>
          <p:nvPr/>
        </p:nvSpPr>
        <p:spPr>
          <a:xfrm>
            <a:off x="3629160" y="4842000"/>
            <a:ext cx="147600" cy="11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04920" y="685800"/>
            <a:ext cx="85341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’s experiences during the voyage of the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Beag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helped him frame his ideas on ev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es evolve as a result of their interactions with their environ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was influenced by Lyell’s Principles of Geology, in which he promoted the idea of continual, gradual, and consistent geological chang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coined the term, decent with modification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33480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unity among organisms related through descent from an ancestor that lived in the remote pas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33480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ver millions of years they accumulated diveses adaptations that allowed them to surviv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3348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WAS DARWIN’S PHRASE FOR EVOLUTION? WHAT DOES IT MEA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ivity 13B: The Voyage of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eagl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arwin's Trip Around the World (13.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2 Darwin proposed natural selection as the mechanism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1756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observed that organis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 more offspring than the environment can suppor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3348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ary in many characteristics that can be inheri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6854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reasoned that natur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ults i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favor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raits being represented more and more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unfavor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ones less and less in ensuing generations of org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arwin observed that species tend to produce excessive numbers of offspring, that the expression of traits varies among the individuals of a population, and that many of these traits are heritabl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75c01"/>
                </a:solidFill>
                <a:latin typeface="Century Schoolbook"/>
              </a:rPr>
              <a:t>WHAT DO OVERPRODUCTION OF OFFSPRING, AND HERITABLE VARIATIONS HAVE TO DO WITH ORGANISMS BECOMING ADAPTED TO THEIR ENVIRONMENT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2634840"/>
            <a:ext cx="746748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Every environment has a limited supply of resour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Survival in a limited environment depends in part on the features the organisms inherit from their paren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Those with characteristics favored the environment went on to reprodu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Darwin referred to this process 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Natural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3427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found convincing evidence for his ideas in the results of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artifici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41400" indent="-5713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elective breeding of domesticated plants and animals (modifying specie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6"/>
          <p:cNvGrpSpPr/>
          <p:nvPr/>
        </p:nvGrpSpPr>
        <p:grpSpPr>
          <a:xfrm>
            <a:off x="420840" y="2773440"/>
            <a:ext cx="8299440" cy="3591000"/>
            <a:chOff x="420840" y="2773440"/>
            <a:chExt cx="8299440" cy="3591000"/>
          </a:xfrm>
        </p:grpSpPr>
        <p:pic>
          <p:nvPicPr>
            <p:cNvPr id="441" name="Picture 5" descr="_x001e_13_02aArtifSelectPlants_UP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20840" y="2773440"/>
              <a:ext cx="28623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11"/>
            <p:cNvSpPr/>
            <p:nvPr/>
          </p:nvSpPr>
          <p:spPr>
            <a:xfrm>
              <a:off x="1360800" y="60879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7" descr="_x001d_13_02BArtifSelectDogs_CNL.jpg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3821040" y="3008160"/>
              <a:ext cx="4899240" cy="31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8"/>
            <p:cNvSpPr/>
            <p:nvPr/>
          </p:nvSpPr>
          <p:spPr>
            <a:xfrm>
              <a:off x="5407200" y="5036760"/>
              <a:ext cx="176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ndreds to thousand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years of breed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rtificial selectio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9"/>
            <p:cNvSpPr/>
            <p:nvPr/>
          </p:nvSpPr>
          <p:spPr>
            <a:xfrm>
              <a:off x="5508360" y="5727600"/>
              <a:ext cx="15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cestral dog (wol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2"/>
            <p:cNvSpPr/>
            <p:nvPr/>
          </p:nvSpPr>
          <p:spPr>
            <a:xfrm>
              <a:off x="5780520" y="6076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241200"/>
            <a:ext cx="853416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proposed that living spec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descended from earlier life forms and that natural selection is the mechanism of evolu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6"/>
          <p:cNvGrpSpPr/>
          <p:nvPr/>
        </p:nvGrpSpPr>
        <p:grpSpPr>
          <a:xfrm>
            <a:off x="213120" y="3681360"/>
            <a:ext cx="6234840" cy="2886480"/>
            <a:chOff x="213120" y="3681360"/>
            <a:chExt cx="6234840" cy="2886480"/>
          </a:xfrm>
        </p:grpSpPr>
        <p:pic>
          <p:nvPicPr>
            <p:cNvPr id="450" name="Picture 34" descr="_x001d_13_02cCanineNatSelect_CNL.jpg                                  0050CFAB_x0003_203                            BE723100:"/>
            <p:cNvPicPr/>
            <p:nvPr/>
          </p:nvPicPr>
          <p:blipFill>
            <a:blip r:embed="rId1"/>
            <a:stretch/>
          </p:blipFill>
          <p:spPr>
            <a:xfrm>
              <a:off x="712080" y="3681360"/>
              <a:ext cx="573588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24"/>
            <p:cNvSpPr/>
            <p:nvPr/>
          </p:nvSpPr>
          <p:spPr>
            <a:xfrm>
              <a:off x="2969280" y="5539320"/>
              <a:ext cx="123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ousands to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llions of year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natural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5"/>
            <p:cNvSpPr/>
            <p:nvPr/>
          </p:nvSpPr>
          <p:spPr>
            <a:xfrm>
              <a:off x="3027960" y="6227640"/>
              <a:ext cx="111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cestral can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6"/>
            <p:cNvSpPr/>
            <p:nvPr/>
          </p:nvSpPr>
          <p:spPr>
            <a:xfrm>
              <a:off x="961560" y="5059800"/>
              <a:ext cx="107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frican wild d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7"/>
            <p:cNvSpPr/>
            <p:nvPr/>
          </p:nvSpPr>
          <p:spPr>
            <a:xfrm>
              <a:off x="2215800" y="505980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y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3370680" y="506700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9"/>
            <p:cNvSpPr/>
            <p:nvPr/>
          </p:nvSpPr>
          <p:spPr>
            <a:xfrm>
              <a:off x="4426200" y="5069520"/>
              <a:ext cx="39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0"/>
            <p:cNvSpPr/>
            <p:nvPr/>
          </p:nvSpPr>
          <p:spPr>
            <a:xfrm>
              <a:off x="5396040" y="506340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ck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32"/>
            <p:cNvSpPr/>
            <p:nvPr/>
          </p:nvSpPr>
          <p:spPr>
            <a:xfrm>
              <a:off x="213120" y="6291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2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Picture 7" descr="_x001d_13_02BArtifSelectDogs_CNL.jpg                                  0050CFAB_x0003_203                            BE61E8D3:"/>
          <p:cNvPicPr/>
          <p:nvPr/>
        </p:nvPicPr>
        <p:blipFill>
          <a:blip r:embed="rId2"/>
          <a:stretch/>
        </p:blipFill>
        <p:spPr>
          <a:xfrm>
            <a:off x="4871880" y="1324080"/>
            <a:ext cx="3908520" cy="260028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4"/>
          <p:cNvSpPr/>
          <p:nvPr/>
        </p:nvSpPr>
        <p:spPr>
          <a:xfrm>
            <a:off x="376200" y="1647720"/>
            <a:ext cx="442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dreds to thousands of years of breeding (artificial 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estral dog (w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Straight Arrow Connector 16"/>
          <p:cNvCxnSpPr/>
          <p:nvPr/>
        </p:nvCxnSpPr>
        <p:spPr>
          <a:xfrm flipV="1">
            <a:off x="3741480" y="2164680"/>
            <a:ext cx="1130760" cy="1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62" name="Straight Arrow Connector 20"/>
          <p:cNvCxnSpPr/>
          <p:nvPr/>
        </p:nvCxnSpPr>
        <p:spPr>
          <a:xfrm>
            <a:off x="2382480" y="2947680"/>
            <a:ext cx="74700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WO IMPORTANT POINTS CAN BE DRAWN FROM DARWIN’S THEORY OF NATURAL SELECTION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Ancestral species gave rise to the diverse life forms by transfer of heritable traits to offspring that best promote reproduction. He called this </a:t>
            </a:r>
            <a:r>
              <a:rPr b="0" lang="en-US" sz="2400" spc="-1" strike="noStrike">
                <a:solidFill>
                  <a:srgbClr val="e75c01"/>
                </a:solidFill>
                <a:latin typeface="Century Schoolbook"/>
              </a:rPr>
              <a:t>“</a:t>
            </a:r>
            <a:r>
              <a:rPr b="1" i="1" lang="en-US" sz="2400" spc="-1" strike="noStrike">
                <a:solidFill>
                  <a:srgbClr val="e75c01"/>
                </a:solidFill>
                <a:latin typeface="Century Schoolbook"/>
              </a:rPr>
              <a:t>descent with modification</a:t>
            </a:r>
            <a:r>
              <a:rPr b="0" lang="en-US" sz="2400" spc="-1" strike="noStrike">
                <a:solidFill>
                  <a:srgbClr val="e75c01"/>
                </a:solidFill>
                <a:latin typeface="Century Schoolbook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Over vast amounts of time, the gradual accumulation of changes in the characteristics among the individuals in a population occu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32920" y="241200"/>
            <a:ext cx="8534520" cy="25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3 The study of fossils provides strong evidence for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44600" indent="-330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ssils and the fossil recor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17440" indent="-5587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rongly support the theory of evolu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6"/>
          <p:cNvGrpSpPr/>
          <p:nvPr/>
        </p:nvGrpSpPr>
        <p:grpSpPr>
          <a:xfrm>
            <a:off x="1534680" y="2370240"/>
            <a:ext cx="6838920" cy="4181040"/>
            <a:chOff x="1534680" y="2370240"/>
            <a:chExt cx="6838920" cy="4181040"/>
          </a:xfrm>
        </p:grpSpPr>
        <p:pic>
          <p:nvPicPr>
            <p:cNvPr id="468" name="Picture 12" descr="_x0013_13_03gIceMan_UP.jpg     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6383880" y="5076360"/>
              <a:ext cx="17409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6" descr="_x001d_13_03aHomoErectusSkull_UP.jpg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5055120" y="2370240"/>
              <a:ext cx="126792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7" descr="_x001a_13_03bPetrifiedTree_UP.jpg                                     0050CFAB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3408840" y="3199680"/>
              <a:ext cx="14558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8" descr="_x001a_13_03cAmmoniteCasts_UP.jpg                                     0050CFAB_x0003_203                            BE61E8D3:"/>
            <p:cNvPicPr/>
            <p:nvPr/>
          </p:nvPicPr>
          <p:blipFill>
            <a:blip r:embed="rId4"/>
            <a:stretch/>
          </p:blipFill>
          <p:spPr>
            <a:xfrm>
              <a:off x="4903920" y="3661920"/>
              <a:ext cx="185364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9" descr="_x001b_13_03dDinosaurTracks_UP.jpg                                    0050CFAB_x0003_203                            BE61E8D3:"/>
            <p:cNvPicPr/>
            <p:nvPr/>
          </p:nvPicPr>
          <p:blipFill>
            <a:blip r:embed="rId5"/>
            <a:stretch/>
          </p:blipFill>
          <p:spPr>
            <a:xfrm>
              <a:off x="6805440" y="3195360"/>
              <a:ext cx="1568160" cy="17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0" descr="_x001b_13_03eFossilizedLeaf_UP.jpg                                    0050CFAB_x0003_203                            BE61E8D3:"/>
            <p:cNvPicPr/>
            <p:nvPr/>
          </p:nvPicPr>
          <p:blipFill>
            <a:blip r:embed="rId6"/>
            <a:stretch/>
          </p:blipFill>
          <p:spPr>
            <a:xfrm>
              <a:off x="3343680" y="5059440"/>
              <a:ext cx="159228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1" descr="_x0018_13_03fInsectAmber_UP.jpg                                       0050CFAB_x0003_203                            BE61E8D3:"/>
            <p:cNvPicPr/>
            <p:nvPr/>
          </p:nvPicPr>
          <p:blipFill>
            <a:blip r:embed="rId7"/>
            <a:stretch/>
          </p:blipFill>
          <p:spPr>
            <a:xfrm rot="10828200">
              <a:off x="4924440" y="5063760"/>
              <a:ext cx="1367640" cy="11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13"/>
            <p:cNvSpPr/>
            <p:nvPr/>
          </p:nvSpPr>
          <p:spPr>
            <a:xfrm>
              <a:off x="5474160" y="3171600"/>
              <a:ext cx="84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Skull of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Homo</a:t>
              </a:r>
              <a:br>
                <a:rPr sz="700"/>
              </a:b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erect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62120" y="4827960"/>
              <a:ext cx="904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Dinosaur track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5348160" y="4823640"/>
              <a:ext cx="919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Ammonite cas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3738600" y="4823640"/>
              <a:ext cx="79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Petrified tre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3643560" y="59756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Fossilized organic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tter of a lea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6918120" y="6149160"/>
              <a:ext cx="66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“Ice Man”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1"/>
            <p:cNvSpPr/>
            <p:nvPr/>
          </p:nvSpPr>
          <p:spPr>
            <a:xfrm>
              <a:off x="1534680" y="6274800"/>
              <a:ext cx="130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A–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4"/>
            <p:cNvSpPr/>
            <p:nvPr/>
          </p:nvSpPr>
          <p:spPr>
            <a:xfrm>
              <a:off x="5168520" y="5922720"/>
              <a:ext cx="88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  Insect in amb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3880" y="153684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THING IN BIOLOGY MAKES SENSE EXCEPT IN THE LIGHT OF EVOLUTION.”  T. DOBZHANSK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238120" y="3921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3427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fossil recor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461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veals that organisms have evolved in a historical seque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8"/>
          <p:cNvGrpSpPr/>
          <p:nvPr/>
        </p:nvGrpSpPr>
        <p:grpSpPr>
          <a:xfrm>
            <a:off x="1659240" y="2266920"/>
            <a:ext cx="5533560" cy="4191120"/>
            <a:chOff x="1659240" y="2266920"/>
            <a:chExt cx="5533560" cy="4191120"/>
          </a:xfrm>
        </p:grpSpPr>
        <p:pic>
          <p:nvPicPr>
            <p:cNvPr id="486" name="Picture 23" descr="_x0017_13_03hRockStrata_UP.jpg 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95680" y="2266920"/>
              <a:ext cx="44971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26"/>
            <p:cNvSpPr/>
            <p:nvPr/>
          </p:nvSpPr>
          <p:spPr>
            <a:xfrm>
              <a:off x="1659240" y="6129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fossils link early extinct species with species living tod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7"/>
          <p:cNvGrpSpPr/>
          <p:nvPr/>
        </p:nvGrpSpPr>
        <p:grpSpPr>
          <a:xfrm>
            <a:off x="1051200" y="2143080"/>
            <a:ext cx="7040160" cy="4351320"/>
            <a:chOff x="1051200" y="2143080"/>
            <a:chExt cx="7040160" cy="4351320"/>
          </a:xfrm>
        </p:grpSpPr>
        <p:pic>
          <p:nvPicPr>
            <p:cNvPr id="491" name="Picture 14" descr="_x001a_13_03IExtinctWhale_CNL.jpg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049480" y="2143080"/>
              <a:ext cx="60418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15"/>
            <p:cNvSpPr/>
            <p:nvPr/>
          </p:nvSpPr>
          <p:spPr>
            <a:xfrm>
              <a:off x="1051200" y="615312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3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Box 6"/>
          <p:cNvSpPr/>
          <p:nvPr/>
        </p:nvSpPr>
        <p:spPr>
          <a:xfrm>
            <a:off x="289080" y="139536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losaurus, an extinct whale whose hind legs link living whales with their land-dwelling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13.4 A MASS OF OTHER EVIDENCE REINFORCES THE EVOLUTIONARY VIEW OF LIFE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iogeograp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geography, the geographic distribution of spec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ecies at different geographical regions are similar to each ot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suggested to Darwin that organisms evolve from common ancesto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 noted that Galápagos anima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sembled species of the South American mainland more than animals on similar but distant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04920" y="685800"/>
            <a:ext cx="853416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arative anat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mparative anatom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comparison of body structures in different spec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tomical similarities between many species give signs of common dec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r example, all mammals have the same basic limb structu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Homolog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similarity in characteristics that result from common ancest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04920" y="685800"/>
            <a:ext cx="853416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39440" indent="-3121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Homologous struc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e features that often have </a:t>
            </a:r>
            <a:r>
              <a:rPr b="1" i="1" lang="en-US" sz="1800" spc="-1" strike="noStrike">
                <a:solidFill>
                  <a:srgbClr val="e75c01"/>
                </a:solidFill>
                <a:latin typeface="Century Schoolbook"/>
              </a:rPr>
              <a:t>different functions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 are </a:t>
            </a:r>
            <a:r>
              <a:rPr b="1" i="1" lang="en-US" sz="1800" spc="-1" strike="noStrike">
                <a:solidFill>
                  <a:srgbClr val="e75c01"/>
                </a:solidFill>
                <a:latin typeface="Century Schoolbook"/>
              </a:rPr>
              <a:t>structurally similar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ecause of common ancest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volution is a remodeling process.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eb ac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9440" indent="-31212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Vestigial orga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663920" indent="-49680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gans that have no know function that are remains from ancesto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920880" y="2921040"/>
            <a:ext cx="6365880" cy="3367800"/>
            <a:chOff x="920880" y="2921040"/>
            <a:chExt cx="6365880" cy="3367800"/>
          </a:xfrm>
        </p:grpSpPr>
        <p:pic>
          <p:nvPicPr>
            <p:cNvPr id="502" name="Picture 15" descr="_x001f_13_04aHomologousForelimbs_U.jpg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2079720" y="2921040"/>
              <a:ext cx="520704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16"/>
            <p:cNvSpPr/>
            <p:nvPr/>
          </p:nvSpPr>
          <p:spPr>
            <a:xfrm>
              <a:off x="2132280" y="595152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7"/>
            <p:cNvSpPr/>
            <p:nvPr/>
          </p:nvSpPr>
          <p:spPr>
            <a:xfrm>
              <a:off x="3349800" y="594036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4763520" y="59403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6487920" y="594216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920880" y="60073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4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arative Embryolo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12880" indent="-330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embryology is the comparison of early stages of development among different organism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685800"/>
            <a:ext cx="853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304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vertebra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5872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ve common embryonic structu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Group 36"/>
          <p:cNvGrpSpPr/>
          <p:nvPr/>
        </p:nvGrpSpPr>
        <p:grpSpPr>
          <a:xfrm>
            <a:off x="615960" y="254160"/>
            <a:ext cx="8020080" cy="5707080"/>
            <a:chOff x="615960" y="254160"/>
            <a:chExt cx="8020080" cy="5707080"/>
          </a:xfrm>
        </p:grpSpPr>
        <p:sp>
          <p:nvSpPr>
            <p:cNvPr id="512" name="FlagCount" hidden="1"/>
            <p:cNvSpPr/>
            <p:nvPr/>
          </p:nvSpPr>
          <p:spPr>
            <a:xfrm>
              <a:off x="8255160" y="254160"/>
              <a:ext cx="380880" cy="317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e8637">
                <a:alpha val="2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Picture 17" descr="_x001b_13_04bEmbryoHomology_UP.jpg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615960" y="2405160"/>
              <a:ext cx="7959600" cy="32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Line 18"/>
            <p:cNvSpPr/>
            <p:nvPr/>
          </p:nvSpPr>
          <p:spPr>
            <a:xfrm flipV="1">
              <a:off x="2128680" y="4908600"/>
              <a:ext cx="138456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9"/>
            <p:cNvSpPr/>
            <p:nvPr/>
          </p:nvSpPr>
          <p:spPr>
            <a:xfrm flipH="1">
              <a:off x="4403880" y="3917880"/>
              <a:ext cx="2388960" cy="1015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0"/>
            <p:cNvSpPr/>
            <p:nvPr/>
          </p:nvSpPr>
          <p:spPr>
            <a:xfrm>
              <a:off x="3491640" y="4768920"/>
              <a:ext cx="93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t-an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1"/>
            <p:cNvSpPr/>
            <p:nvPr/>
          </p:nvSpPr>
          <p:spPr>
            <a:xfrm>
              <a:off x="1996920" y="3208320"/>
              <a:ext cx="147348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23"/>
            <p:cNvSpPr/>
            <p:nvPr/>
          </p:nvSpPr>
          <p:spPr>
            <a:xfrm>
              <a:off x="3485520" y="335916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arynge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ch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 flipH="1">
              <a:off x="4537080" y="3309840"/>
              <a:ext cx="2124000" cy="192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 flipH="1">
              <a:off x="4557240" y="3422520"/>
              <a:ext cx="2325960" cy="8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6"/>
            <p:cNvSpPr/>
            <p:nvPr/>
          </p:nvSpPr>
          <p:spPr>
            <a:xfrm>
              <a:off x="709560" y="5475240"/>
              <a:ext cx="12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ck 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7"/>
            <p:cNvSpPr/>
            <p:nvPr/>
          </p:nvSpPr>
          <p:spPr>
            <a:xfrm>
              <a:off x="4793040" y="546876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man 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8"/>
            <p:cNvSpPr/>
            <p:nvPr/>
          </p:nvSpPr>
          <p:spPr>
            <a:xfrm>
              <a:off x="3473640" y="56847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2071800" y="3041640"/>
              <a:ext cx="1401480" cy="43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3"/>
            <p:cNvSpPr/>
            <p:nvPr/>
          </p:nvSpPr>
          <p:spPr>
            <a:xfrm flipH="1">
              <a:off x="4537080" y="3305160"/>
              <a:ext cx="212400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 flipH="1">
              <a:off x="4552920" y="3417840"/>
              <a:ext cx="232560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 flipH="1">
              <a:off x="4412880" y="3913200"/>
              <a:ext cx="2389320" cy="10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olecular Biolo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isons of DNA and amino acid sequences between different organis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veal evolutionary relationshi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6"/>
          <p:cNvGrpSpPr/>
          <p:nvPr/>
        </p:nvGrpSpPr>
        <p:grpSpPr>
          <a:xfrm>
            <a:off x="2419200" y="2238480"/>
            <a:ext cx="4559040" cy="4198320"/>
            <a:chOff x="2419200" y="2238480"/>
            <a:chExt cx="4559040" cy="4198320"/>
          </a:xfrm>
        </p:grpSpPr>
        <p:pic>
          <p:nvPicPr>
            <p:cNvPr id="531" name="Picture 12" descr="_x001a_13_04ProteinHomology_T.jpg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513240" y="2238480"/>
              <a:ext cx="3465000" cy="41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13"/>
            <p:cNvSpPr/>
            <p:nvPr/>
          </p:nvSpPr>
          <p:spPr>
            <a:xfrm>
              <a:off x="2419200" y="605916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le 13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5 Scientists can observe natural selection in a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mouflage adaptations that evolved in different environments are examples of the results of natural selec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4721400" y="3892680"/>
            <a:ext cx="3278160" cy="2563920"/>
            <a:chOff x="4721400" y="3892680"/>
            <a:chExt cx="3278160" cy="2563920"/>
          </a:xfrm>
        </p:grpSpPr>
        <p:grpSp>
          <p:nvGrpSpPr>
            <p:cNvPr id="537" name="Group 5"/>
            <p:cNvGrpSpPr/>
            <p:nvPr/>
          </p:nvGrpSpPr>
          <p:grpSpPr>
            <a:xfrm>
              <a:off x="5749920" y="3892680"/>
              <a:ext cx="2249640" cy="2560680"/>
              <a:chOff x="5749920" y="3892680"/>
              <a:chExt cx="2249640" cy="2560680"/>
            </a:xfrm>
          </p:grpSpPr>
          <p:pic>
            <p:nvPicPr>
              <p:cNvPr id="538" name="Picture 6" descr="_x001e_13_05aCamouflageMimicry_UP.jpg                                 0050CFAB_x0003_203                            BE61E8D3:"/>
              <p:cNvPicPr/>
              <p:nvPr/>
            </p:nvPicPr>
            <p:blipFill>
              <a:blip r:embed="rId1"/>
              <a:stretch/>
            </p:blipFill>
            <p:spPr>
              <a:xfrm>
                <a:off x="5749920" y="3892680"/>
                <a:ext cx="2249640" cy="256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7"/>
              <p:cNvSpPr/>
              <p:nvPr/>
            </p:nvSpPr>
            <p:spPr>
              <a:xfrm>
                <a:off x="5819040" y="3993840"/>
                <a:ext cx="944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 flower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antid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 Malay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8"/>
              <p:cNvSpPr/>
              <p:nvPr/>
            </p:nvSpPr>
            <p:spPr>
              <a:xfrm>
                <a:off x="5819400" y="5159520"/>
                <a:ext cx="202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 leaf mantid in Costa R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9"/>
            <p:cNvSpPr/>
            <p:nvPr/>
          </p:nvSpPr>
          <p:spPr>
            <a:xfrm>
              <a:off x="4721400" y="61801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5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181080"/>
            <a:ext cx="853416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ment of pesticide resistance in insec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nother example of natural selection in a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se two examples illustrate that natural selection is an editing process, not a creative mechanism. They also show that natural selection is regional, timely, and can occur rapidl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"/>
          <p:cNvGrpSpPr/>
          <p:nvPr/>
        </p:nvGrpSpPr>
        <p:grpSpPr>
          <a:xfrm>
            <a:off x="1847880" y="2530440"/>
            <a:ext cx="5924520" cy="3735720"/>
            <a:chOff x="1847880" y="2530440"/>
            <a:chExt cx="5924520" cy="3735720"/>
          </a:xfrm>
        </p:grpSpPr>
        <p:pic>
          <p:nvPicPr>
            <p:cNvPr id="545" name="Picture 6" descr="_x001f_13_05bPesticidResistanc_CNL.jpg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3632040" y="2530440"/>
              <a:ext cx="4140360" cy="36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7"/>
            <p:cNvSpPr/>
            <p:nvPr/>
          </p:nvSpPr>
          <p:spPr>
            <a:xfrm>
              <a:off x="6317640" y="4105080"/>
              <a:ext cx="132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sticide 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8"/>
            <p:cNvSpPr/>
            <p:nvPr/>
          </p:nvSpPr>
          <p:spPr>
            <a:xfrm>
              <a:off x="5656320" y="478152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viv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9"/>
            <p:cNvSpPr/>
            <p:nvPr/>
          </p:nvSpPr>
          <p:spPr>
            <a:xfrm>
              <a:off x="3163320" y="3828960"/>
              <a:ext cx="1514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 with gen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erring resistanc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pestic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 flipH="1">
              <a:off x="3930120" y="3811680"/>
              <a:ext cx="210348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1"/>
            <p:cNvSpPr/>
            <p:nvPr/>
          </p:nvSpPr>
          <p:spPr>
            <a:xfrm>
              <a:off x="3165480" y="4924440"/>
              <a:ext cx="13680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itio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s of th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me pesticide wil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 less effective, an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frequency of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istant insects i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populatio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l g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801960" y="61387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4"/>
            <p:cNvSpPr/>
            <p:nvPr/>
          </p:nvSpPr>
          <p:spPr>
            <a:xfrm>
              <a:off x="1847880" y="59896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5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wn, Fool, or Simply Well Adapt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5480" indent="-3556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blue-footed boob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03240" indent="-5457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type of bird living in the Galápagos Isla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_x001e_13_UN254BlueFootedBooby_UP.jpg                                 0050CFAB_x0003_203                            BE77EE71:"/>
          <p:cNvPicPr/>
          <p:nvPr/>
        </p:nvPicPr>
        <p:blipFill>
          <a:blip r:embed="rId1"/>
          <a:stretch/>
        </p:blipFill>
        <p:spPr>
          <a:xfrm>
            <a:off x="2733840" y="3403440"/>
            <a:ext cx="35892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 WHAT SENSE IS NATURAL SELECTION MORE OF AN EDITING PROCESS THAN A CREATIVE PROCES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4066920"/>
            <a:ext cx="746748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PULATION GENETICS AND THE MODERN SYNTHESI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359000"/>
            <a:ext cx="85341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6 Populations are the units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4507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group of individuals of the same species living in the same place at the same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4507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	</a:t>
            </a:r>
            <a:r>
              <a:rPr b="1" i="1" lang="en-US" sz="2100" spc="-1" strike="noStrike">
                <a:solidFill>
                  <a:srgbClr val="e75c01"/>
                </a:solidFill>
                <a:latin typeface="Century Schoolbook"/>
              </a:rPr>
              <a:t>Species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s a group of popul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ose individuals can interbreed and produce fertile offspr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population is the smallest unit that can evol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increase of resistant insects in areas sprayed with pesticides is a good example of a population evolov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tural selection favored genes that were resista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62320" indent="-533520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se insects left more offspr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62320" indent="-533520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population changed or evolv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04920" y="685440"/>
            <a:ext cx="853416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genetics (1920’s) – combined the teachings of Darwin and Mend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udies how populations change genetically over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odern synthesis (1940’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nnects Darwin’s theory with population gene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.e. populations are the unit of evolu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ey Features of Populations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pulations may be isolated from others of the same species, with little interbreeding and thus little exchange of gen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lands, mountain rang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04920" y="685800"/>
            <a:ext cx="8534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gene poo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total collection of genes in a population at any one ti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eles in all the individuals within a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roev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change in the relative frequencies of alleles in a gene 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.e. alleles for pesticide resist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CAN’T AN INDIVIDUAL EVOLV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04920" y="685800"/>
            <a:ext cx="853416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7 The gene pool of a nonevolving population remains constant over the gener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entury Schoolbook"/>
              </a:rPr>
              <a:t>nonevolving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huffling of alleles that accompanies sexual reproduction does not alter the genetic makeup of the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 matter how many times alleles are shuffled , the frequency of each allele is the gene pool remains the sam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1"/>
          <p:cNvGrpSpPr/>
          <p:nvPr/>
        </p:nvGrpSpPr>
        <p:grpSpPr>
          <a:xfrm>
            <a:off x="2854440" y="4029120"/>
            <a:ext cx="3456360" cy="2406960"/>
            <a:chOff x="2854440" y="4029120"/>
            <a:chExt cx="3456360" cy="2406960"/>
          </a:xfrm>
        </p:grpSpPr>
        <p:pic>
          <p:nvPicPr>
            <p:cNvPr id="567" name="Picture 41" descr="_x001d_13_07aImaginargyBoobies_U.jpg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01760" y="4029120"/>
              <a:ext cx="229212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42"/>
            <p:cNvSpPr/>
            <p:nvPr/>
          </p:nvSpPr>
          <p:spPr>
            <a:xfrm>
              <a:off x="4107600" y="615636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43"/>
            <p:cNvSpPr/>
            <p:nvPr/>
          </p:nvSpPr>
          <p:spPr>
            <a:xfrm>
              <a:off x="5322240" y="615636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webb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47"/>
            <p:cNvGrpSpPr/>
            <p:nvPr/>
          </p:nvGrpSpPr>
          <p:grpSpPr>
            <a:xfrm>
              <a:off x="4478040" y="5680080"/>
              <a:ext cx="1583280" cy="495360"/>
              <a:chOff x="4478040" y="5680080"/>
              <a:chExt cx="1583280" cy="495360"/>
            </a:xfrm>
          </p:grpSpPr>
          <p:sp>
            <p:nvSpPr>
              <p:cNvPr id="571" name="Line 44"/>
              <p:cNvSpPr/>
              <p:nvPr/>
            </p:nvSpPr>
            <p:spPr>
              <a:xfrm flipH="1">
                <a:off x="4478040" y="5680080"/>
                <a:ext cx="288720" cy="49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5"/>
              <p:cNvSpPr/>
              <p:nvPr/>
            </p:nvSpPr>
            <p:spPr>
              <a:xfrm flipH="1">
                <a:off x="5788800" y="5746680"/>
                <a:ext cx="272520" cy="42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Text Box 49"/>
            <p:cNvSpPr/>
            <p:nvPr/>
          </p:nvSpPr>
          <p:spPr>
            <a:xfrm>
              <a:off x="2854440" y="61596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04920" y="685440"/>
            <a:ext cx="85341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rdy-Weinberg equilibrium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ates that the shuffling of genes during sexual reproduction does not alter the proportions of different alleles in a gene po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51"/>
          <p:cNvGrpSpPr/>
          <p:nvPr/>
        </p:nvGrpSpPr>
        <p:grpSpPr>
          <a:xfrm>
            <a:off x="1530720" y="2719440"/>
            <a:ext cx="6414840" cy="3706920"/>
            <a:chOff x="1530720" y="2719440"/>
            <a:chExt cx="6414840" cy="3706920"/>
          </a:xfrm>
        </p:grpSpPr>
        <p:pic>
          <p:nvPicPr>
            <p:cNvPr id="577" name="Picture 6" descr="_x0019_13_07bBoobyGenePool_U.jpg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33760" y="2719440"/>
              <a:ext cx="531180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7"/>
            <p:cNvSpPr/>
            <p:nvPr/>
          </p:nvSpPr>
          <p:spPr>
            <a:xfrm>
              <a:off x="2850120" y="310824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8"/>
            <p:cNvSpPr/>
            <p:nvPr/>
          </p:nvSpPr>
          <p:spPr>
            <a:xfrm>
              <a:off x="2847960" y="368136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9"/>
            <p:cNvSpPr/>
            <p:nvPr/>
          </p:nvSpPr>
          <p:spPr>
            <a:xfrm>
              <a:off x="4621680" y="368136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0"/>
            <p:cNvSpPr/>
            <p:nvPr/>
          </p:nvSpPr>
          <p:spPr>
            <a:xfrm>
              <a:off x="5748120" y="36813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1"/>
            <p:cNvSpPr/>
            <p:nvPr/>
          </p:nvSpPr>
          <p:spPr>
            <a:xfrm>
              <a:off x="6849000" y="368460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2"/>
            <p:cNvSpPr/>
            <p:nvPr/>
          </p:nvSpPr>
          <p:spPr>
            <a:xfrm>
              <a:off x="2852640" y="3987720"/>
              <a:ext cx="123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animal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5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3"/>
            <p:cNvSpPr/>
            <p:nvPr/>
          </p:nvSpPr>
          <p:spPr>
            <a:xfrm>
              <a:off x="4563720" y="39877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4"/>
            <p:cNvSpPr/>
            <p:nvPr/>
          </p:nvSpPr>
          <p:spPr>
            <a:xfrm>
              <a:off x="5708520" y="39877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5"/>
            <p:cNvSpPr/>
            <p:nvPr/>
          </p:nvSpPr>
          <p:spPr>
            <a:xfrm>
              <a:off x="6848280" y="3987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4524480" y="45734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8"/>
            <p:cNvSpPr/>
            <p:nvPr/>
          </p:nvSpPr>
          <p:spPr>
            <a:xfrm>
              <a:off x="4434840" y="439272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9"/>
            <p:cNvSpPr/>
            <p:nvPr/>
          </p:nvSpPr>
          <p:spPr>
            <a:xfrm>
              <a:off x="2846520" y="44226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20"/>
            <p:cNvSpPr/>
            <p:nvPr/>
          </p:nvSpPr>
          <p:spPr>
            <a:xfrm>
              <a:off x="4691520" y="44323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>
              <a:off x="5683320" y="457200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3"/>
            <p:cNvSpPr/>
            <p:nvPr/>
          </p:nvSpPr>
          <p:spPr>
            <a:xfrm>
              <a:off x="5581800" y="4365720"/>
              <a:ext cx="41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4"/>
            <p:cNvSpPr/>
            <p:nvPr/>
          </p:nvSpPr>
          <p:spPr>
            <a:xfrm>
              <a:off x="5853600" y="4430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6"/>
            <p:cNvSpPr/>
            <p:nvPr/>
          </p:nvSpPr>
          <p:spPr>
            <a:xfrm>
              <a:off x="6823080" y="457200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7"/>
            <p:cNvSpPr/>
            <p:nvPr/>
          </p:nvSpPr>
          <p:spPr>
            <a:xfrm>
              <a:off x="6739200" y="4365720"/>
              <a:ext cx="41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8"/>
            <p:cNvSpPr/>
            <p:nvPr/>
          </p:nvSpPr>
          <p:spPr>
            <a:xfrm>
              <a:off x="7015320" y="4430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2851200" y="5000760"/>
              <a:ext cx="1162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allele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gene poo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,0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30"/>
            <p:cNvSpPr/>
            <p:nvPr/>
          </p:nvSpPr>
          <p:spPr>
            <a:xfrm>
              <a:off x="2844000" y="586440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el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1"/>
            <p:cNvSpPr/>
            <p:nvPr/>
          </p:nvSpPr>
          <p:spPr>
            <a:xfrm>
              <a:off x="4743360" y="60008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4634280" y="5821200"/>
              <a:ext cx="4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>
              <a:off x="4948200" y="5859360"/>
              <a:ext cx="64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6"/>
            <p:cNvSpPr/>
            <p:nvPr/>
          </p:nvSpPr>
          <p:spPr>
            <a:xfrm>
              <a:off x="6501600" y="585936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7"/>
            <p:cNvSpPr/>
            <p:nvPr/>
          </p:nvSpPr>
          <p:spPr>
            <a:xfrm>
              <a:off x="4496400" y="501660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4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38"/>
            <p:cNvSpPr/>
            <p:nvPr/>
          </p:nvSpPr>
          <p:spPr>
            <a:xfrm>
              <a:off x="5392800" y="501804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39"/>
            <p:cNvSpPr/>
            <p:nvPr/>
          </p:nvSpPr>
          <p:spPr>
            <a:xfrm>
              <a:off x="6811920" y="50259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0"/>
            <p:cNvSpPr/>
            <p:nvPr/>
          </p:nvSpPr>
          <p:spPr>
            <a:xfrm rot="5400000">
              <a:off x="5889600" y="4671720"/>
              <a:ext cx="100080" cy="640080"/>
            </a:xfrm>
            <a:custGeom>
              <a:avLst/>
              <a:gdLst>
                <a:gd name="textAreaLeft" fmla="*/ 64080 w 100080"/>
                <a:gd name="textAreaRight" fmla="*/ 100440 w 100080"/>
                <a:gd name="textAreaTop" fmla="*/ 16560 h 640080"/>
                <a:gd name="textAreaBottom" fmla="*/ 623520 h 64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46"/>
            <p:cNvSpPr/>
            <p:nvPr/>
          </p:nvSpPr>
          <p:spPr>
            <a:xfrm>
              <a:off x="1530720" y="60912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5"/>
            <p:cNvSpPr/>
            <p:nvPr/>
          </p:nvSpPr>
          <p:spPr>
            <a:xfrm>
              <a:off x="6161400" y="5827680"/>
              <a:ext cx="4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>
              <a:off x="6256440" y="6008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37"/>
          <p:cNvSpPr/>
          <p:nvPr/>
        </p:nvSpPr>
        <p:spPr>
          <a:xfrm>
            <a:off x="157320" y="2670120"/>
            <a:ext cx="2585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make up of the original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genotype frequency we can calculate the frequency of each allele in this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3312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e can follow alleles in a popul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96040" indent="-527760">
              <a:spcBef>
                <a:spcPts val="56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observe if Hardy-Weinberg equilibrium exis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796040" indent="-527760">
              <a:spcBef>
                <a:spcPts val="814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+ 2pq +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= allows us to determine the frequency of genotypes in a gene po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3"/>
          <p:cNvGrpSpPr/>
          <p:nvPr/>
        </p:nvGrpSpPr>
        <p:grpSpPr>
          <a:xfrm>
            <a:off x="1546560" y="2301840"/>
            <a:ext cx="5843160" cy="4132440"/>
            <a:chOff x="1546560" y="2301840"/>
            <a:chExt cx="5843160" cy="4132440"/>
          </a:xfrm>
        </p:grpSpPr>
        <p:pic>
          <p:nvPicPr>
            <p:cNvPr id="614" name="Picture 8" descr="_x001c_13_07cNewBoobyGenePool_U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617920" y="2301840"/>
              <a:ext cx="4771800" cy="41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9"/>
            <p:cNvSpPr/>
            <p:nvPr/>
          </p:nvSpPr>
          <p:spPr>
            <a:xfrm>
              <a:off x="2823480" y="2517840"/>
              <a:ext cx="1169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mbination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alleles from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gen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0"/>
            <p:cNvSpPr/>
            <p:nvPr/>
          </p:nvSpPr>
          <p:spPr>
            <a:xfrm>
              <a:off x="3635280" y="41227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2816280" y="563580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otyp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2823480" y="594504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ele frequen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3"/>
            <p:cNvSpPr/>
            <p:nvPr/>
          </p:nvSpPr>
          <p:spPr>
            <a:xfrm>
              <a:off x="4493880" y="5635800"/>
              <a:ext cx="6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4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4"/>
            <p:cNvSpPr/>
            <p:nvPr/>
          </p:nvSpPr>
          <p:spPr>
            <a:xfrm>
              <a:off x="5298120" y="56358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5"/>
            <p:cNvSpPr/>
            <p:nvPr/>
          </p:nvSpPr>
          <p:spPr>
            <a:xfrm>
              <a:off x="6093000" y="5624640"/>
              <a:ext cx="64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6"/>
            <p:cNvSpPr/>
            <p:nvPr/>
          </p:nvSpPr>
          <p:spPr>
            <a:xfrm>
              <a:off x="4935960" y="595008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7"/>
            <p:cNvSpPr/>
            <p:nvPr/>
          </p:nvSpPr>
          <p:spPr>
            <a:xfrm>
              <a:off x="5850000" y="59421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8"/>
            <p:cNvSpPr/>
            <p:nvPr/>
          </p:nvSpPr>
          <p:spPr>
            <a:xfrm>
              <a:off x="2824200" y="5378400"/>
              <a:ext cx="118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xt generatio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9"/>
            <p:cNvSpPr/>
            <p:nvPr/>
          </p:nvSpPr>
          <p:spPr>
            <a:xfrm>
              <a:off x="4070520" y="3629160"/>
              <a:ext cx="59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0"/>
            <p:cNvSpPr/>
            <p:nvPr/>
          </p:nvSpPr>
          <p:spPr>
            <a:xfrm>
              <a:off x="4073760" y="4572000"/>
              <a:ext cx="59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g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1"/>
            <p:cNvSpPr/>
            <p:nvPr/>
          </p:nvSpPr>
          <p:spPr>
            <a:xfrm>
              <a:off x="4958640" y="2919240"/>
              <a:ext cx="68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"/>
            <p:cNvSpPr/>
            <p:nvPr/>
          </p:nvSpPr>
          <p:spPr>
            <a:xfrm>
              <a:off x="5860080" y="2927520"/>
              <a:ext cx="659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3"/>
            <p:cNvSpPr/>
            <p:nvPr/>
          </p:nvSpPr>
          <p:spPr>
            <a:xfrm>
              <a:off x="5430600" y="273528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4"/>
            <p:cNvSpPr/>
            <p:nvPr/>
          </p:nvSpPr>
          <p:spPr>
            <a:xfrm>
              <a:off x="4866840" y="3301920"/>
              <a:ext cx="70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5"/>
            <p:cNvSpPr/>
            <p:nvPr/>
          </p:nvSpPr>
          <p:spPr>
            <a:xfrm>
              <a:off x="5796000" y="3290760"/>
              <a:ext cx="73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q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6"/>
            <p:cNvSpPr/>
            <p:nvPr/>
          </p:nvSpPr>
          <p:spPr>
            <a:xfrm>
              <a:off x="4851360" y="4251240"/>
              <a:ext cx="73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7"/>
            <p:cNvSpPr/>
            <p:nvPr/>
          </p:nvSpPr>
          <p:spPr>
            <a:xfrm>
              <a:off x="5809680" y="4238640"/>
              <a:ext cx="70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0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1546560" y="613080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7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4920" y="68580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a population to be in Hardy-Weinberg equilibrium, it must satisfy 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five main condi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population is very lar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population is isola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utations do not alter the gene 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ting is rando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 individuals are equal in reproductive succ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se 5 conditions are rarely met. In many populations the rate of evolution is so slow that the population appears close to equilibrium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09320" y="15876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eshman Biology Skip to 13.9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lide 4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04920" y="685440"/>
            <a:ext cx="8478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type of bird possesses many specialized characteristics, called evolutionary adapt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volutionary adaptations are inherited traits that enhance its ability to survive and reproduce in its particular environ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4" descr="_x001e_13_UN255BlueFootedBooby_UP.jpg                                 0050CFAB_x0003_203                            BE77EE71:"/>
          <p:cNvPicPr/>
          <p:nvPr/>
        </p:nvPicPr>
        <p:blipFill>
          <a:blip r:embed="rId1"/>
          <a:stretch/>
        </p:blipFill>
        <p:spPr>
          <a:xfrm>
            <a:off x="3551400" y="3162240"/>
            <a:ext cx="20062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8 The Hardy-Weinberg equation is useful in public health scie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ublic health scientists use the Hardy-Weinberg equ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estimate frequencies of disease-causing alleles in the human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04920" y="6858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9 In addition to natural selection, genetic drift and gene flow can contribute to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tic drif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a change in the gene pool of a population due to ch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maller the population the more likely genetic drift will occu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tic drift tend to reduce genetic variation through the loss in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77280" indent="-2811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tic drif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cause the bottleneck effect or the founder effec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ttleneck  effect is an event that drastically reduces the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nder effect  caused by the colonization of new locations by smaller popul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50920" indent="-44784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maller the group the less likely the genetic makeup will represent the population they lef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1240" indent="-4478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4"/>
          <p:cNvGrpSpPr/>
          <p:nvPr/>
        </p:nvGrpSpPr>
        <p:grpSpPr>
          <a:xfrm>
            <a:off x="490680" y="3033720"/>
            <a:ext cx="8474040" cy="3606840"/>
            <a:chOff x="490680" y="3033720"/>
            <a:chExt cx="8474040" cy="3606840"/>
          </a:xfrm>
        </p:grpSpPr>
        <p:pic>
          <p:nvPicPr>
            <p:cNvPr id="647" name="Picture 5" descr="_x001c_13_09aBottleneckEffect_U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90680" y="3033720"/>
              <a:ext cx="4341600" cy="32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6"/>
            <p:cNvSpPr/>
            <p:nvPr/>
          </p:nvSpPr>
          <p:spPr>
            <a:xfrm>
              <a:off x="582840" y="59576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7"/>
            <p:cNvSpPr/>
            <p:nvPr/>
          </p:nvSpPr>
          <p:spPr>
            <a:xfrm>
              <a:off x="2070000" y="5957640"/>
              <a:ext cx="93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ttlenecking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3592800" y="59576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viving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1" name="Picture 9" descr="_x001a_13_09bElephantSeals_UP.jpg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4722840" y="3393720"/>
              <a:ext cx="424188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11"/>
            <p:cNvSpPr/>
            <p:nvPr/>
          </p:nvSpPr>
          <p:spPr>
            <a:xfrm>
              <a:off x="1657800" y="63640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9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2"/>
            <p:cNvSpPr/>
            <p:nvPr/>
          </p:nvSpPr>
          <p:spPr>
            <a:xfrm>
              <a:off x="6267600" y="63543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9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 flo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movement of individuals or gametes (pollen grains) between popul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2087640" indent="-533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 flow tends to reduce differences between popul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04920" y="685800"/>
            <a:ext cx="8534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atural selec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eads to differential reproductive succes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alter allele frequencies in a popu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THREE CAUSES OF MICROEVOLUTION.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ICH ONE WILL ADAPT A POPULATION TO ITS ENVIRONMEN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6840" y="2828520"/>
            <a:ext cx="746748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0 Endangered species often have reduced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5480" indent="-3427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ow genetic variabilit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28800" indent="-5587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duce the capacity of endangered species to survive as humans continue to alter the environ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_x0013_13_10Cheetah_UP.jpg                                            0050CFAB_x0003_203                            BE61E8D3:"/>
          <p:cNvPicPr/>
          <p:nvPr/>
        </p:nvPicPr>
        <p:blipFill>
          <a:blip r:embed="rId1"/>
          <a:stretch/>
        </p:blipFill>
        <p:spPr>
          <a:xfrm>
            <a:off x="3073320" y="3989520"/>
            <a:ext cx="4527720" cy="24494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1990440" y="61261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3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kip to 13.18 Natural Selection cannot fashion perfect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lide 5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ARIATION AND NATURAL SE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1 Variation is extensive in most popul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y populations exhibit polymorphis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fferent forms of phenotypic characteristic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7"/>
          <p:cNvGrpSpPr/>
          <p:nvPr/>
        </p:nvGrpSpPr>
        <p:grpSpPr>
          <a:xfrm>
            <a:off x="1247400" y="3071880"/>
            <a:ext cx="7028280" cy="3430440"/>
            <a:chOff x="1247400" y="3071880"/>
            <a:chExt cx="7028280" cy="3430440"/>
          </a:xfrm>
        </p:grpSpPr>
        <p:pic>
          <p:nvPicPr>
            <p:cNvPr id="671" name="Picture 5" descr="_x0018_13_11Polymorphism_UP.jpg    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2303640" y="3071880"/>
              <a:ext cx="5972040" cy="34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6"/>
            <p:cNvSpPr/>
            <p:nvPr/>
          </p:nvSpPr>
          <p:spPr>
            <a:xfrm>
              <a:off x="1247400" y="61009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s may also exhibit geographic var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ariation of an inherited characteristic along a geographic continu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0480" y="-3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WHAT ARE SOME OF THE CHARACTERISTICS THAT SHOW EVOLUTIONARY ADAPTATIONS FOR THE BLUE FOOTED BOOBY?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888920"/>
            <a:ext cx="74674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lue-footed booby h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ormous webbed fee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oil producing gland that keeps the booby afloa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nostril that can close under water that prevents water from entering the lung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gland that secrets salt from consumed sea wa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 a torpedo-lik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l adaptations that make life on the sea feasibl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2 Mutation and sexual recombination generate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tations, or changes in the nucleotide sequence of D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n create new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928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xual recombin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96920" indent="-533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erates variation by shuffling alleles during meiosi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31"/>
          <p:cNvGrpSpPr/>
          <p:nvPr/>
        </p:nvGrpSpPr>
        <p:grpSpPr>
          <a:xfrm>
            <a:off x="2052360" y="2470320"/>
            <a:ext cx="4977000" cy="3816360"/>
            <a:chOff x="2052360" y="2470320"/>
            <a:chExt cx="4977000" cy="3816360"/>
          </a:xfrm>
        </p:grpSpPr>
        <p:pic>
          <p:nvPicPr>
            <p:cNvPr id="680" name="Picture 5" descr="_x001e_13_12SexualRecombination_U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067280" y="2470320"/>
              <a:ext cx="29620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6"/>
            <p:cNvSpPr/>
            <p:nvPr/>
          </p:nvSpPr>
          <p:spPr>
            <a:xfrm>
              <a:off x="4381200" y="28018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7"/>
            <p:cNvSpPr/>
            <p:nvPr/>
          </p:nvSpPr>
          <p:spPr>
            <a:xfrm>
              <a:off x="5717880" y="2814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8"/>
            <p:cNvSpPr/>
            <p:nvPr/>
          </p:nvSpPr>
          <p:spPr>
            <a:xfrm>
              <a:off x="4854240" y="28018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9"/>
            <p:cNvSpPr/>
            <p:nvPr/>
          </p:nvSpPr>
          <p:spPr>
            <a:xfrm>
              <a:off x="6181560" y="2814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0"/>
            <p:cNvSpPr/>
            <p:nvPr/>
          </p:nvSpPr>
          <p:spPr>
            <a:xfrm>
              <a:off x="4243320" y="422100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1"/>
            <p:cNvSpPr/>
            <p:nvPr/>
          </p:nvSpPr>
          <p:spPr>
            <a:xfrm>
              <a:off x="4379760" y="55609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2"/>
            <p:cNvSpPr/>
            <p:nvPr/>
          </p:nvSpPr>
          <p:spPr>
            <a:xfrm>
              <a:off x="5286240" y="42181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3"/>
            <p:cNvSpPr/>
            <p:nvPr/>
          </p:nvSpPr>
          <p:spPr>
            <a:xfrm>
              <a:off x="6541920" y="422100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4"/>
            <p:cNvSpPr/>
            <p:nvPr/>
          </p:nvSpPr>
          <p:spPr>
            <a:xfrm>
              <a:off x="4867200" y="554832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5"/>
            <p:cNvSpPr/>
            <p:nvPr/>
          </p:nvSpPr>
          <p:spPr>
            <a:xfrm>
              <a:off x="5802120" y="5586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6"/>
            <p:cNvSpPr/>
            <p:nvPr/>
          </p:nvSpPr>
          <p:spPr>
            <a:xfrm>
              <a:off x="6289560" y="5586480"/>
              <a:ext cx="31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7"/>
            <p:cNvSpPr/>
            <p:nvPr/>
          </p:nvSpPr>
          <p:spPr>
            <a:xfrm>
              <a:off x="5232240" y="5823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8"/>
            <p:cNvSpPr/>
            <p:nvPr/>
          </p:nvSpPr>
          <p:spPr>
            <a:xfrm>
              <a:off x="5257440" y="2860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9"/>
            <p:cNvSpPr/>
            <p:nvPr/>
          </p:nvSpPr>
          <p:spPr>
            <a:xfrm>
              <a:off x="3258720" y="284472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0"/>
            <p:cNvSpPr/>
            <p:nvPr/>
          </p:nvSpPr>
          <p:spPr>
            <a:xfrm>
              <a:off x="3260160" y="345456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io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1"/>
            <p:cNvSpPr/>
            <p:nvPr/>
          </p:nvSpPr>
          <p:spPr>
            <a:xfrm>
              <a:off x="3258720" y="42609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2"/>
            <p:cNvSpPr/>
            <p:nvPr/>
          </p:nvSpPr>
          <p:spPr>
            <a:xfrm>
              <a:off x="3255840" y="5033880"/>
              <a:ext cx="82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3"/>
            <p:cNvSpPr/>
            <p:nvPr/>
          </p:nvSpPr>
          <p:spPr>
            <a:xfrm>
              <a:off x="3254760" y="5575320"/>
              <a:ext cx="9244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spring,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new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alle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8"/>
            <p:cNvSpPr/>
            <p:nvPr/>
          </p:nvSpPr>
          <p:spPr>
            <a:xfrm>
              <a:off x="2052360" y="59990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11" descr="_x0018_13_13Tuberculosis_UP.jpg                                       0050CFAB_x0003_203                            BE723100:"/>
          <p:cNvPicPr/>
          <p:nvPr/>
        </p:nvPicPr>
        <p:blipFill>
          <a:blip r:embed="rId1"/>
          <a:stretch/>
        </p:blipFill>
        <p:spPr>
          <a:xfrm>
            <a:off x="5191200" y="3606840"/>
            <a:ext cx="2787480" cy="255276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N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3 The evolution of antibiotic resistance in bacteria is a serious public health conce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excessive use of antibiotic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leading to the evolution of antibiotic-resistant bacte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"/>
          <p:cNvSpPr/>
          <p:nvPr/>
        </p:nvSpPr>
        <p:spPr>
          <a:xfrm flipH="1" rot="16200000">
            <a:off x="7177680" y="4974480"/>
            <a:ext cx="100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ized SEM 5,600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4479480" y="62071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04920" y="685440"/>
            <a:ext cx="8534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4 Diploidy and balancing selection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ploidy preserves variat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y “hiding” recessive alle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lanced polymorphis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y result from the heterozygote advantage or frequency-dependent sele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04920" y="68580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ome variations may be neutr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viding no apparent advantage or disadvanta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7"/>
          <p:cNvGrpSpPr/>
          <p:nvPr/>
        </p:nvGrpSpPr>
        <p:grpSpPr>
          <a:xfrm>
            <a:off x="428760" y="3013200"/>
            <a:ext cx="8234280" cy="3170520"/>
            <a:chOff x="428760" y="3013200"/>
            <a:chExt cx="8234280" cy="3170520"/>
          </a:xfrm>
        </p:grpSpPr>
        <p:pic>
          <p:nvPicPr>
            <p:cNvPr id="711" name="Picture 4" descr="_x001c_13_14NeutralVariation_UP.jpg  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428760" y="3013200"/>
              <a:ext cx="8234280" cy="30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5"/>
            <p:cNvSpPr/>
            <p:nvPr/>
          </p:nvSpPr>
          <p:spPr>
            <a:xfrm>
              <a:off x="3793680" y="590724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5 The perpetuation of genes defines evolutionary fit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 individual’s fitn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s the contribution it makes to the gene pool of the next gener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04920" y="685800"/>
            <a:ext cx="853416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3.16 Natural selection can alter variation in a population in three w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abilizing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avors intermediate phenotyp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rectional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cts against individuals at one of the phenotypic extrem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sruptive sele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6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avors individuals at both extremes of the phenotypic rang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ree possible effects of natural se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9"/>
          <p:cNvGrpSpPr/>
          <p:nvPr/>
        </p:nvGrpSpPr>
        <p:grpSpPr>
          <a:xfrm>
            <a:off x="514080" y="1338120"/>
            <a:ext cx="8091720" cy="5139000"/>
            <a:chOff x="514080" y="1338120"/>
            <a:chExt cx="8091720" cy="5139000"/>
          </a:xfrm>
        </p:grpSpPr>
        <p:pic>
          <p:nvPicPr>
            <p:cNvPr id="720" name="Picture 5" descr="_x001f_13_16NaturalSelectModes_3_U.jpg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1295280" y="1338120"/>
              <a:ext cx="731052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6"/>
            <p:cNvSpPr/>
            <p:nvPr/>
          </p:nvSpPr>
          <p:spPr>
            <a:xfrm>
              <a:off x="5261040" y="151920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7"/>
            <p:cNvSpPr/>
            <p:nvPr/>
          </p:nvSpPr>
          <p:spPr>
            <a:xfrm flipV="1">
              <a:off x="5138640" y="1654200"/>
              <a:ext cx="17316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8"/>
            <p:cNvSpPr/>
            <p:nvPr/>
          </p:nvSpPr>
          <p:spPr>
            <a:xfrm>
              <a:off x="1802520" y="6219720"/>
              <a:ext cx="139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bilizing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9"/>
            <p:cNvSpPr/>
            <p:nvPr/>
          </p:nvSpPr>
          <p:spPr>
            <a:xfrm>
              <a:off x="1319400" y="345924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 flipH="1" flipV="1">
              <a:off x="1893960" y="3836880"/>
              <a:ext cx="35568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1"/>
            <p:cNvSpPr/>
            <p:nvPr/>
          </p:nvSpPr>
          <p:spPr>
            <a:xfrm>
              <a:off x="2594160" y="3462480"/>
              <a:ext cx="761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ved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"/>
            <p:cNvSpPr/>
            <p:nvPr/>
          </p:nvSpPr>
          <p:spPr>
            <a:xfrm flipV="1">
              <a:off x="2600280" y="3860640"/>
              <a:ext cx="297000" cy="6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3"/>
            <p:cNvSpPr/>
            <p:nvPr/>
          </p:nvSpPr>
          <p:spPr>
            <a:xfrm rot="16200000">
              <a:off x="3064320" y="2179080"/>
              <a:ext cx="144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equency of individu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4"/>
            <p:cNvSpPr/>
            <p:nvPr/>
          </p:nvSpPr>
          <p:spPr>
            <a:xfrm>
              <a:off x="4300920" y="3435480"/>
              <a:ext cx="142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otypes (fur col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5"/>
            <p:cNvSpPr/>
            <p:nvPr/>
          </p:nvSpPr>
          <p:spPr>
            <a:xfrm>
              <a:off x="4321080" y="6230880"/>
              <a:ext cx="14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ional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6"/>
            <p:cNvSpPr/>
            <p:nvPr/>
          </p:nvSpPr>
          <p:spPr>
            <a:xfrm>
              <a:off x="6751440" y="622764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ruptive sel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7"/>
            <p:cNvSpPr/>
            <p:nvPr/>
          </p:nvSpPr>
          <p:spPr>
            <a:xfrm>
              <a:off x="514080" y="617688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7 Sexual selection may produce sexual dimorph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xual selection leads to the evolution of secondary sexual characteris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ich may give individuals an advantage in mat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9"/>
          <p:cNvGrpSpPr/>
          <p:nvPr/>
        </p:nvGrpSpPr>
        <p:grpSpPr>
          <a:xfrm>
            <a:off x="1928880" y="3981600"/>
            <a:ext cx="3247920" cy="2441520"/>
            <a:chOff x="1928880" y="3981600"/>
            <a:chExt cx="3247920" cy="2441520"/>
          </a:xfrm>
        </p:grpSpPr>
        <p:pic>
          <p:nvPicPr>
            <p:cNvPr id="736" name="Picture 4" descr="_x001e_13_17aIntrasexualSelect_UP.jpg                                 0050CFAB_x0003_203                            BE61E8D3:"/>
            <p:cNvPicPr/>
            <p:nvPr/>
          </p:nvPicPr>
          <p:blipFill>
            <a:blip r:embed="rId1"/>
            <a:stretch/>
          </p:blipFill>
          <p:spPr>
            <a:xfrm>
              <a:off x="1928880" y="3981600"/>
              <a:ext cx="3247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 Box 6"/>
            <p:cNvSpPr/>
            <p:nvPr/>
          </p:nvSpPr>
          <p:spPr>
            <a:xfrm>
              <a:off x="2795040" y="614664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7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8"/>
          <p:cNvGrpSpPr/>
          <p:nvPr/>
        </p:nvGrpSpPr>
        <p:grpSpPr>
          <a:xfrm>
            <a:off x="5710320" y="3578400"/>
            <a:ext cx="1566720" cy="2836800"/>
            <a:chOff x="5710320" y="3578400"/>
            <a:chExt cx="1566720" cy="2836800"/>
          </a:xfrm>
        </p:grpSpPr>
        <p:pic>
          <p:nvPicPr>
            <p:cNvPr id="739" name="Picture 5" descr="_x0014_13_17bPeacock_UP.jpg                                           0050CFAB_x0003_203                            BE61E8D3:"/>
            <p:cNvPicPr/>
            <p:nvPr/>
          </p:nvPicPr>
          <p:blipFill>
            <a:blip r:embed="rId2"/>
            <a:stretch/>
          </p:blipFill>
          <p:spPr>
            <a:xfrm>
              <a:off x="5710320" y="3578400"/>
              <a:ext cx="15667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7"/>
            <p:cNvSpPr/>
            <p:nvPr/>
          </p:nvSpPr>
          <p:spPr>
            <a:xfrm>
              <a:off x="5906880" y="6138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7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04920" y="685800"/>
            <a:ext cx="853416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8 Natural selection cannot fashion perfect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re are at least four reasons why natural selection cannot produce perf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ganisms are limited by historical constrain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daptations are often compromi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nce and natural selection interac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lection can only edit existing vari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look at any organism critically, you are first struck by the differences from other organism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rther observations often reveals that an organism’s features show some relationship to where the organism lives and what it does in its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RWIN’S THEORY OF 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.1 A sea voyage helped Darwin frame his theory of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30480">
              <a:spcBef>
                <a:spcPts val="788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 his visit to the Galápagos Islands: </a:t>
            </a:r>
            <a:r>
              <a:rPr b="0" lang="en-U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(VIDE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33520">
              <a:spcBef>
                <a:spcPts val="67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arles Darwin observed many unique organis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6200" indent="-533520">
              <a:spcBef>
                <a:spcPts val="67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Igua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2279520" y="3394080"/>
            <a:ext cx="5597640" cy="3035160"/>
            <a:chOff x="2279520" y="3394080"/>
            <a:chExt cx="5597640" cy="3035160"/>
          </a:xfrm>
        </p:grpSpPr>
        <p:pic>
          <p:nvPicPr>
            <p:cNvPr id="370" name="Picture 31" descr="_x0019_13_01aMarineIguana_UP.jpg                                      0050CFAB_x0003_203                            BE61E8D3:"/>
            <p:cNvPicPr/>
            <p:nvPr/>
          </p:nvPicPr>
          <p:blipFill>
            <a:blip r:embed="rId3"/>
            <a:stretch/>
          </p:blipFill>
          <p:spPr>
            <a:xfrm>
              <a:off x="3336840" y="3394080"/>
              <a:ext cx="454032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32"/>
            <p:cNvSpPr/>
            <p:nvPr/>
          </p:nvSpPr>
          <p:spPr>
            <a:xfrm>
              <a:off x="2279520" y="612756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13.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7"/>
          <p:cNvSpPr/>
          <p:nvPr/>
        </p:nvSpPr>
        <p:spPr>
          <a:xfrm>
            <a:off x="204840" y="3357720"/>
            <a:ext cx="255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Arial"/>
              </a:rPr>
              <a:t>Note: Special structures or behaviors help the organism survive and reproduce in a </a:t>
            </a:r>
            <a:r>
              <a:rPr b="0" i="1" lang="en-US" sz="2400" spc="-1" strike="noStrike" u="sng">
                <a:solidFill>
                  <a:srgbClr val="e75c01"/>
                </a:solidFill>
                <a:uFillTx/>
                <a:latin typeface="Arial"/>
              </a:rPr>
              <a:t>particular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2240" y="274320"/>
            <a:ext cx="85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LIVING SPECIES HAVE ARISEN FROM EARLIER LIFE FORMS AND THAT SPECIES CHANGE OVER TIME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rwin’s main ideas can be traced back to the ancient Gree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aximander (about 2,500 years ago) suggested that life arose in water and that simpler forms preceded more complex forms of lif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istotle believed that species were fixed and did not evolv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Judeo-Christian tradition that all species were created in a single act of creation about 6,000 years ag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685800"/>
            <a:ext cx="853416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the century prior to Darw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5c01"/>
                </a:solidFill>
                <a:uFillTx/>
                <a:latin typeface="Century Schoolbook"/>
              </a:rPr>
              <a:t>Buff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(mid-1700s) suggested that Earth was much older than 6,000 years,  and raised the possibility that different species arose from common ancestors, although he later argued against this poi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study of fossils suggested that life forms chan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348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e75c01"/>
                </a:solidFill>
                <a:uFillTx/>
                <a:latin typeface="Century Schoolbook"/>
              </a:rPr>
              <a:t>Lamarc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(early 1800s) was the first to strongly support the idea of evolution, but he believed the mechanism for change was the inheritance of acquired characteristic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 proposed that by using or not using its body parts, an individual may develop certain traits that are passed on to its offspr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814400" indent="-53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e8637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0:54:38Z</dcterms:created>
  <dc:creator>Christopher Delgado</dc:creator>
  <dc:description/>
  <dc:language>en-US</dc:language>
  <cp:lastModifiedBy>Tracey Hayden</cp:lastModifiedBy>
  <cp:lastPrinted>2005-04-02T23:11:35Z</cp:lastPrinted>
  <dcterms:modified xsi:type="dcterms:W3CDTF">2010-02-22T00:57:59Z</dcterms:modified>
  <cp:revision>599</cp:revision>
  <dc:subject/>
  <dc:title>Slide 1</dc:title>
</cp:coreProperties>
</file>